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C0CC-306A-48D0-8C5F-C0C11FE60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EA43-CCB3-4732-9FE9-098D89AC63C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8274-8A99-4C7B-8320-1668EEC025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D61B-9EEF-45A6-B55E-01441683C83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3A83-514E-44D3-8194-135EAB854AE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D0EA-36E8-40FC-999C-C8B730000C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11BF-7929-4088-8F81-72FB3405B8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6EF6-526A-4403-B962-5C3B6A98DD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38CA-5C6B-407C-96F8-B65B35B845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523E-5999-495E-A828-A38B70CAD4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F50D-D230-40F3-ABF4-2D61B0EAEB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4CE5-9E9A-4262-92C3-03E1563671F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FE9D-D5BD-4270-BFCE-C52CF60D9B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650E-CE83-4D37-A9CA-8DD25FA8E22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0B6E-B46C-4C12-B9D1-33B13FC127B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02DE-B9E9-4933-8BE9-CDB8B7FB26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F3C0-48AC-4AA3-BC2E-2D0019D60C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9DCA-C508-48F0-8A18-5BD25B1E96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84C-13FD-459A-AA4B-0731B089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DC26-3BE6-47F7-9AD4-6106528D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12D-4DD6-4EF7-8FEC-3FE324FB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925-F444-4E61-A54E-FD8927DA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C543-3001-49BF-A44D-E9A407FA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6494-40E1-45CE-8D1A-89C4FEBF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A02B-3268-445E-A990-BDEFDD36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2BE4-3769-4EA0-AC8E-EF339E3C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79F5-590F-4450-AF39-755606F6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4586-3550-4B82-91D5-A93E50BA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A8A3-C0B1-48E0-B01A-9E6EB9D0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DB8-6191-4AD2-8AA3-87B8501A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BF07-2D8A-4F88-BB67-3231FF82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4683-C6BE-43E5-B970-782692CA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1F3A-AD0D-454B-97B1-A140C71C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DCC0-287A-47E1-8607-69EB4CF1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4E7B-0593-491A-8126-8976ABA2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8E6FA-AEBF-48B8-ADBA-D3D78DBA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41E0B-8B43-4484-9C23-F9E2E8E7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C7305-C2EA-40B9-B23A-80B8CE00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AB6E2-80B0-4EE4-AC69-47F0DC1A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4A21A-7C77-4335-B29A-3B1902E5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7C82-0F48-47E3-826A-71C7842F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ED957-F818-41B7-B8F3-370283D6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40CE6-4AFC-4250-839F-164FF796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847DA-6F3F-47E7-8F9F-84E3941E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07D7E-CD07-4EE6-BC70-CC0DE89A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1FC3F-AA80-4A22-B745-43491CCD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057BC-E49E-4945-97E9-F127DB35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BA9EE-384E-4F20-805F-185AE9E6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7F5F2-1FC1-4214-8C02-0204631C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0E698-5D5E-492B-B0BD-4185BD91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31BA9-2F57-460B-88B5-751028E2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F7A6-79F4-47C0-A093-E66D0FE0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EB5CD-3230-4482-8640-25B00719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B0E2B-F3C9-425C-9EAD-5361475D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DB835-0E39-4D19-AA85-EE3787D8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406C4-F90A-42AD-ABCB-6DD8A6F5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68642-D657-4552-814E-EB5EE23E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3A201-7D52-4CD3-98CE-98C93924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61B2B-4C0C-462B-AD78-E03AD732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B3E6E-DF02-47D0-9237-75F896FE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E0419-BDFA-4846-A263-3374CF78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DB06B-5D45-408A-BD5F-072BD4DB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C00-8FE8-43E7-9600-F8E544F8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1AF39-B419-448E-BCDC-2CD2D361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4E6BA-6856-4059-B6C0-625BDC9F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5BC7B-761D-4184-94B3-E5271974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E31B2-18AD-43CA-95DF-253F61DC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C9150-B2F4-4B1B-94FF-088A387B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12ABF-0FDD-4FD1-A77F-66C47398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D804A-8BD4-486C-9D2B-779A59AC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E789B-C423-4D4B-93EA-C056FBCC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5DE3C-46D6-4AB2-96CD-E79EFB8A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FF399-2C32-464A-B404-82A61F09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7CD-4BC7-4112-BECC-C4934096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020EB-9A76-4DA3-AD5C-DF438F0A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EA303-3357-488F-B684-237F6E9C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C4C9A-5367-4D0A-9872-6F3EAADC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60B41-E7C3-4FE0-A0EF-7EF5BA4C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24A39-FF5C-4583-932A-1B1AB834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F4251-9432-48F4-8D65-244C47E5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F7A46-AB94-4A85-99B6-5B600366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D4334-D2A2-4011-8FC3-3E8274E8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F9992-1D90-4FB0-822D-24092FC8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3358D-AED7-4FA4-929B-ED97A8AC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DA1-EB96-4D47-BF7B-136D78B8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58E6C-7014-404D-B792-B94C8DE6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A6D2E-7965-4E88-87D7-6FC7D7C4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05D04-1417-4FE9-9A9B-1812FCD7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62E5B-4EFA-461A-980E-EC7063D9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09C48-A3C5-4D61-A556-74D2CCE9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8AF4F-31C6-4F9C-9CFC-EE437164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4E4E1-3E2E-47CB-B0D7-B4D75C13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B5CF0-0C5B-4587-8A66-3127AE95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C8D9F-342C-46FA-BF97-2D60A777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A5597-DA82-4800-91F1-678488DC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54E2-9E15-41C2-9BF8-78BECB6E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46016-49C0-4079-8864-48E4372E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3550D-FAD3-4F7B-B6FC-4FC50118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01805-E903-4E3D-BD97-332B1901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8E601-16A4-4258-9B17-1C4E666D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63ABA-08F5-4EB7-BB36-E8CF5036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5C5BD-26CC-4C8F-B63A-83123777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C2BF6-6935-4B4F-AF3C-3370A5DE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63C7B-98FE-41E2-B233-B2149162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A9BC7-CE99-4C79-9686-1F7090E3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A6A52-CD3F-4866-9563-ED742BB9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9A0-EF43-46FB-9598-A4E072B9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FF53A-2ACE-4D78-92BB-5DC78DD6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2AEF7-5B44-4B76-AAFD-60AB3599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C2577-4A64-4846-9A5D-5F4E3536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92C1D-01DD-4377-8177-ABA631EE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C703B-F87B-4F1D-8DD0-532AC127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5B495-8AF1-4A9F-A17D-DDDB24AD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E3AE0-7F6F-4A17-8DC5-A2E65D65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E640-F1EE-4C13-BF5A-EE382F4812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36C3-7174-4B5F-AC07-7C909F430FA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541E-1A36-4138-AB74-806F8828BC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4F26-B81F-40A3-96A6-9DB6BBA497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E9DC-A7BF-4D8F-A35C-16B4AC5024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CA8D-3D9A-44A1-9C3B-FCD50B2F78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0593-2DCA-4D88-94F0-A40B5E27BA16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07C4-E798-472E-8D9D-5930BE9E756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highered.mcgraw-hill.com/sites/0072495855/student_view0/chapter2/animation__mitosis_and_cytokinesis.html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highered.mcgraw-hill.com/olcweb/cgi/pluginpop.cgi?it=swf::535::535::/sites/dl/free/0072437316/120074/bio19.swf::Stages%20of%20Meiosis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114040" cy="1481400"/>
          </a:xfrm>
          <a:prstGeom prst="rect">
            <a:avLst/>
          </a:prstGeom>
          <a:ln w="0">
            <a:noFill/>
          </a:ln>
        </p:spPr>
      </p:pic>
      <p:pic>
        <p:nvPicPr>
          <p:cNvPr id="353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 type of nuclear divis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aughter cells are genetically identic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 phase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rophas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etaphas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naphas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elophas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75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When you were working with the chromosomes of your Wolperdinger during the Meiosis portion of the activity, what was happening?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What did Meiosis do to the cells?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When a cycle of Meiosis is completed, what does you Wolperdinger end up with? 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other type of nuclear divis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duction division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2 groups of divis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aughter cells contain ½ the genetic material from parent cel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ormation of gamet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Century Gothic"/>
              </a:rPr>
              <a:t>Meiosis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nds with </a:t>
            </a:r>
            <a:r>
              <a:rPr b="1" lang="en-US" sz="3000" spc="-1" strike="noStrike">
                <a:solidFill>
                  <a:srgbClr val="00b050"/>
                </a:solidFill>
                <a:latin typeface="Century Gothic"/>
              </a:rPr>
              <a:t>4 haploid (n)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aughter cells, each with </a:t>
            </a:r>
            <a:r>
              <a:rPr b="1" lang="en-US" sz="3000" spc="-1" strike="noStrike">
                <a:solidFill>
                  <a:srgbClr val="00b050"/>
                </a:solidFill>
                <a:latin typeface="Century Gothic"/>
              </a:rPr>
              <a:t>½</a:t>
            </a:r>
            <a:r>
              <a:rPr b="0" lang="en-US" sz="3000" spc="-1" strike="noStrike">
                <a:solidFill>
                  <a:srgbClr val="3a3a3a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number of chromosom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Mitosis</a:t>
            </a: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nds with </a:t>
            </a: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2 diploid (2n)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aughter cells, each with a complete set of chromosomes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721640" cy="57913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5"/>
          <p:cNvSpPr/>
          <p:nvPr/>
        </p:nvSpPr>
        <p:spPr>
          <a:xfrm>
            <a:off x="1523880" y="6095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DIPLOI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TextBox 6"/>
          <p:cNvSpPr/>
          <p:nvPr/>
        </p:nvSpPr>
        <p:spPr>
          <a:xfrm>
            <a:off x="5410080" y="6172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HAPLOI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28240" cy="14079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eiosis and Mitosis have some similariti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oth undergo </a:t>
            </a: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Prophas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Metaphas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0" lang="en-US" sz="3000" spc="-1" strike="noStrike">
                <a:solidFill>
                  <a:srgbClr val="ffc000"/>
                </a:solidFill>
                <a:latin typeface="Century Gothic"/>
              </a:rPr>
              <a:t>Anaphas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and </a:t>
            </a:r>
            <a:r>
              <a:rPr b="0" lang="en-US" sz="3000" spc="-1" strike="noStrike">
                <a:solidFill>
                  <a:srgbClr val="00b050"/>
                </a:solidFill>
                <a:latin typeface="Century Gothic"/>
              </a:rPr>
              <a:t>Teloph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UT Meiosis has </a:t>
            </a:r>
            <a:r>
              <a:rPr b="1" i="1" lang="en-US" sz="3000" spc="-1" strike="noStrike">
                <a:solidFill>
                  <a:srgbClr val="a22e81"/>
                </a:solidFill>
                <a:latin typeface="Century Gothic"/>
              </a:rPr>
              <a:t>two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groups of divisions: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Meiosis I and Meiosis I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5f5f5f"/>
                </a:solidFill>
                <a:uFillTx/>
                <a:latin typeface="Century Gothic"/>
                <a:hlinkClick r:id="rId2"/>
              </a:rPr>
              <a:t>Mitosis and Cytokinesis Vide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5f5f5f"/>
                </a:solidFill>
                <a:uFillTx/>
                <a:latin typeface="Century Gothic"/>
                <a:hlinkClick r:id="rId2"/>
              </a:rPr>
              <a:t>Meiosis Vide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2590920" y="1600200"/>
            <a:ext cx="4049640" cy="45720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5"/>
          <p:cNvSpPr/>
          <p:nvPr/>
        </p:nvSpPr>
        <p:spPr>
          <a:xfrm>
            <a:off x="3400560" y="632448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The “</a:t>
            </a: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Wolperdinger”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6840" y="2057040"/>
            <a:ext cx="5791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hromatin = genetic material (DNA and protein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hromosomes = condensed chromati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6513480" y="2133720"/>
            <a:ext cx="2630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380520" y="14475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ster Chromatids = identical halves of chromosom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entromere = where sister chromatids are joined on chromosom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2"/>
          <a:stretch/>
        </p:blipFill>
        <p:spPr>
          <a:xfrm>
            <a:off x="4700520" y="3809880"/>
            <a:ext cx="4443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758196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83288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aploid cell = contains only ½ of the chromosomes of a somatic cell, denoted by “n”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 = number of chromosom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Gametes are haploi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omatic cell = body cel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ody cells are </a:t>
            </a: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diploi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iploid cell = cell that contains 2 sets of chromosomes, one from mother, one from fath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noted by “2n”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en you were working with the chromosomes of your Wolperdinger during the Mitosis portion of the activity, what was happening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did Mitosis do to the cell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en a cycle of Mitosis is completed, what does you Wolperdinger end up with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5:50:20Z</dcterms:created>
  <dc:creator>Angie</dc:creator>
  <dc:description/>
  <dc:language>en-US</dc:language>
  <cp:lastModifiedBy>Angie</cp:lastModifiedBy>
  <dcterms:modified xsi:type="dcterms:W3CDTF">2011-02-24T18:05:34Z</dcterms:modified>
  <cp:revision>45</cp:revision>
  <dc:subject/>
  <dc:title>Mitosis and Meiosis Madness</dc:title>
</cp:coreProperties>
</file>